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5FC-43EB-46F5-BB8C-B269DAAB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50A1-E7EF-439D-9110-F8B48C44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D66E-BEF7-470A-B0CB-88EACA7F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EC7-8CCA-4229-8828-406EB03E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5B1B-333B-49AB-B39E-D7BD4A45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C174-5F0B-4DD3-B91D-5995D4B9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3A48-132A-466C-A944-B7C2623D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CAE2-194D-420F-9DA5-1B395EA9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31BA-E404-4C74-8589-69DB7DC3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5654-546D-426C-92C8-2C35408C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29BA-3002-499F-AAB4-7CF8920E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1C8-8E8D-4D44-A364-93C9AE6B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D858-03F8-473F-89AB-36FB6581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B82E-F989-41C8-952B-8D0F0B9A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C9D8-9A70-4888-A385-6C1D72A4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451B-6E1B-48ED-A77C-03C6052D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1821-ECE2-4765-907C-D204CD54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5C8-66D1-47AC-AC6B-98807921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9A2-6832-4EEE-A9D8-0D37FA78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1F87-2EAD-4546-8140-C3172DFC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6E71-3912-4DD7-859A-6A951449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07F-9E11-41C6-94C1-CD0C5253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11E-17D7-4384-8C19-77E6F241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DD81-03BB-44FA-8A59-A10338F6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FE64-7341-43EF-B4CB-44A1B1A39F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7225-2E57-4307-8288-2684DAED60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pct"/><Relationship Id="rId5" Type="http://schemas.openxmlformats.org/officeDocument/2006/relationships/package" Target="../embeddings/oleObject2.docx"/><Relationship Id="rId6" Type="http://schemas.openxmlformats.org/officeDocument/2006/relationships/image" Target="../media/image4.pct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838080"/>
            <a:ext cx="76201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MS Pゴシック"/>
              </a:rPr>
              <a:t>The real voyage of discovery lies not in seeking new landscapes, but in having new ey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MS Pゴシック"/>
              </a:rPr>
              <a:t>-Marcel Proust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0" y="1523880"/>
            <a:ext cx="480060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505320" y="8380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71920" y="76212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58280" y="5037120"/>
            <a:ext cx="21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w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5840" y="4876920"/>
            <a:ext cx="239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505320" y="45720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562720"/>
            <a:ext cx="256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567160"/>
            <a:ext cx="5410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Essential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Words/ T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1" lang="en-US" sz="2400" spc="-1" strike="noStrike">
                <a:solidFill>
                  <a:srgbClr val="000000"/>
                </a:solidFill>
                <a:latin typeface="ヒラギノ角ゴ Pro W3"/>
              </a:rPr>
              <a:t>_x0010_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le class learn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Knows, understands, able to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8076960" cy="5815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29000" y="38088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0760" y="5562720"/>
            <a:ext cx="239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3657600"/>
            <a:ext cx="56390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ntextual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915400" cy="5924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29720" y="5851440"/>
            <a:ext cx="21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w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2133720"/>
            <a:ext cx="434340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ed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ed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ed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ectful t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915400" cy="5924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9720" y="5851440"/>
            <a:ext cx="21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w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2560680"/>
            <a:ext cx="586728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01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8610480" cy="5333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29120" y="53352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836720"/>
            <a:ext cx="5105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uring          Understan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Readiness, Interests,    Learning pro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8839080" cy="5815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24200" y="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3962520"/>
            <a:ext cx="685800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nceptualiz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838080"/>
            <a:ext cx="76201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MS Pゴシック"/>
              </a:rPr>
              <a:t>The real voyage of discovery lies not in seeking new landscapes, but in having new ey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MS Pゴシック"/>
              </a:rPr>
              <a:t>-Marcel Proust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38080" y="838080"/>
            <a:ext cx="762012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  <a:ea typeface="MS Pゴシック"/>
              </a:rPr>
              <a:t>What new eyes are you seeking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84320" y="1247760"/>
            <a:ext cx="33782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2666880"/>
            <a:ext cx="110664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5560" y="2666880"/>
            <a:ext cx="1219320" cy="1054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2666880"/>
            <a:ext cx="121932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743200"/>
            <a:ext cx="1219320" cy="12193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86600" y="2666880"/>
            <a:ext cx="1828800" cy="15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762120" y="1523880"/>
          <a:ext cx="9754920" cy="457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523880"/>
                    <a:ext cx="9754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28600" y="4495680"/>
          <a:ext cx="8612280" cy="590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495680"/>
                    <a:ext cx="8612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2819520"/>
            <a:ext cx="137160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2971800"/>
            <a:ext cx="1295280" cy="112068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2895480"/>
            <a:ext cx="1143000" cy="1143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2743200"/>
            <a:ext cx="1214640" cy="1214280"/>
          </a:xfrm>
          <a:custGeom>
            <a:avLst/>
            <a:gdLst>
              <a:gd name="textAreaLeft" fmla="*/ 0 w 1214640"/>
              <a:gd name="textAreaRight" fmla="*/ 1215000 w 121464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e36e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ve Universal Cultural Shapes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162920" y="2666880"/>
            <a:ext cx="1714320" cy="14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1371600"/>
            <a:ext cx="7924680" cy="4038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hat is teaching?</a:t>
            </a:r>
            <a:br>
              <a:rPr sz="9600"/>
            </a:br>
            <a:br>
              <a:rPr sz="9600"/>
            </a:b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How is teaching like a square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14600" y="2209680"/>
            <a:ext cx="411480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How is teaching like a   plus sign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057400"/>
            <a:ext cx="4190760" cy="419112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4191120"/>
              <a:gd name="textAreaBottom" fmla="*/ 419148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e36e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How is teaching like a circle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90920" y="21337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Comic Sans MS"/>
              </a:rPr>
              <a:t>How is </a:t>
            </a: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teaching</a:t>
            </a:r>
            <a:r>
              <a:rPr b="0" lang="en-US" sz="5400" spc="-1" strike="noStrike">
                <a:solidFill>
                  <a:srgbClr val="b7e7ff"/>
                </a:solidFill>
                <a:latin typeface="Comic Sans MS"/>
              </a:rPr>
              <a:t> like a spiral?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362320" y="2590920"/>
            <a:ext cx="4419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How is teaching like a triangle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50292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21:57:03Z</dcterms:created>
  <dc:creator>Toni Theisen</dc:creator>
  <dc:description/>
  <dc:language>en-US</dc:language>
  <cp:lastModifiedBy>Toni Theisen</cp:lastModifiedBy>
  <dcterms:modified xsi:type="dcterms:W3CDTF">2006-10-07T15:26:24Z</dcterms:modified>
  <cp:revision>75</cp:revision>
  <dc:subject/>
  <dc:title>Essential Question:</dc:title>
</cp:coreProperties>
</file>